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D748-5BC7-4669-8670-A19A6FE28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A6FF-6D34-482F-A48A-2295583F3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A1BD-1B5D-4A9D-A9EF-4C8970031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D7F7-7AB9-4D17-A272-150698FBA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6E53-0AEE-424B-8C85-A6D44F9F3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9800-CE95-4C94-9588-7A2F05A47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653C-57B9-4CBE-9399-FE2013426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A89E-8935-496F-8A73-D41695CE4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A473-242A-43A0-B2BA-3CC6C7397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570F-7280-484F-A1C3-2A69056F7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159F-64B7-400D-830E-44DA16D7F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6080-F56C-4E82-9B75-4B2887730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22D69-7633-47F4-AC68-D0DF30D8EE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Times New Roman"/>
              </a:rPr>
              <a:t>Медицина</a:t>
            </a: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 заснована на доказима </a:t>
            </a:r>
            <a:r>
              <a:rPr b="0" lang="sr-CS" sz="4400" spc="-1" strike="noStrike">
                <a:solidFill>
                  <a:srgbClr val="000000"/>
                </a:solidFill>
                <a:latin typeface="Times New Roman"/>
              </a:rPr>
              <a:t>– 2. недељ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проф. др Слободан Јанковић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4"/>
          <p:cNvSpPr/>
          <p:nvPr/>
        </p:nvSpPr>
        <p:spPr>
          <a:xfrm>
            <a:off x="1258920" y="2525040"/>
            <a:ext cx="6329160" cy="13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ОСТАВЉАЊЕ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 КЛИНИЧКО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ПИТАЊ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Главни задаци у раду са болесницима због којих се постављају питањ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Клинички налаз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како на одговарајући начин тумачити симптоме и знаке код болесника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Етиологија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како наћи узрок болести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Диференцијална дијагноза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како рангирати све могуће дијагнозе по вероватноћи, озбиљности и подложности лечењу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Дијагностички тест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како изабрати и интерпретирати дијагностички тест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Прогноза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како проценити вероватни ток болести код болесника и предвидети компликациј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Терапија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како изабрати лечење које више користи него што штет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и које вреди напора и трошков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ревенција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како открити и изменити факторе ризика, како рано открити болест скринингом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Усавршавање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како побољшати своје клиничке вештине и своју праксу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ЧЕТИРИ ЕЛЕМЕНТА ДОБРОГ КЛИНИЧКОГ ПИТАЊА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457200" y="1600200"/>
          <a:ext cx="8435880" cy="4705200"/>
        </p:xfrm>
        <a:graphic>
          <a:graphicData uri="http://schemas.openxmlformats.org/drawingml/2006/table">
            <a:tbl>
              <a:tblPr/>
              <a:tblGrid>
                <a:gridCol w="1090440"/>
                <a:gridCol w="1936800"/>
                <a:gridCol w="1913040"/>
                <a:gridCol w="1800360"/>
                <a:gridCol w="1695240"/>
              </a:tblGrid>
              <a:tr h="82224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Болесник или пробле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Интервенција</a:t>
                      </a: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узрок, третман, итд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Упоређењ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Исх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856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вет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итајте се: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“Како бих описао групу болесника сличних мом? Будите прецизни али кратки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итајте се: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ја је главна интервенција коју планирам? Будите специфичн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итајте се: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 је главна алтернатива интервенцији коју планирам? Будите специфичн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итајте се: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 могу очекивати да ћу постићи? или Шта ће интервенција заиста постићи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8440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мер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 болесника са инсуфицијенцијом срца због дилатативне кардиомиопатије, који су у синусном ритму…….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.да ли би примена варфарина код болесника који прима стандардну терапију за инсуфицијенцију срца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. када се упореди са стандардном терапијом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.</a:t>
                      </a:r>
                      <a:r>
                        <a:rPr b="0" lang="sv-SE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иће мањи морталитет и морбидитет од тромбоемболије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0" lang="sv-SE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 ли је то вредно повећаног ризика од крвављења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ПРИМЕ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Госпођица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Драгица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им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19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годин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већ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десетак дана пати од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перианалне фистул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треба да добије антибиотик који ће излечити ову инфекцију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Читала је о томе у новинам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видела је да се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код фистуле даје више антибиотика, али се најчешће помињу ципрофлоксацин и метронидазол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Тренутно има болове, а температура је повишена на 37,5</a:t>
            </a:r>
            <a:r>
              <a:rPr b="0" lang="sr-CS" sz="3200" spc="-1" strike="noStrike" baseline="30000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КЛИНИЧКО ПИТАЊЕ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Да ли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ћ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е </a:t>
            </a:r>
            <a:r>
              <a:rPr b="0" lang="sr-CS" sz="3200" spc="-1" strike="noStrike">
                <a:solidFill>
                  <a:srgbClr val="ff0000"/>
                </a:solidFill>
                <a:latin typeface="Times New Roman"/>
              </a:rPr>
              <a:t>ципрофлоксацин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са већом вероватноћом од </a:t>
            </a:r>
            <a:r>
              <a:rPr b="0" lang="sr-CS" sz="3200" spc="-1" strike="noStrike">
                <a:solidFill>
                  <a:srgbClr val="00b050"/>
                </a:solidFill>
                <a:latin typeface="Times New Roman"/>
              </a:rPr>
              <a:t>метронидазола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довести до </a:t>
            </a:r>
            <a:r>
              <a:rPr b="0" lang="sr-CS" sz="3200" spc="-1" strike="noStrike">
                <a:solidFill>
                  <a:srgbClr val="7030a0"/>
                </a:solidFill>
                <a:latin typeface="Times New Roman"/>
              </a:rPr>
              <a:t>излечења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cc0066"/>
                </a:solidFill>
                <a:latin typeface="Times New Roman"/>
              </a:rPr>
              <a:t>перианалне фистул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3"/>
          <p:cNvSpPr/>
          <p:nvPr/>
        </p:nvSpPr>
        <p:spPr>
          <a:xfrm>
            <a:off x="1785960" y="2500200"/>
            <a:ext cx="5715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Да ли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ћ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е </a:t>
            </a:r>
            <a:r>
              <a:rPr b="0" lang="sr-CS" sz="1800" spc="-1" strike="noStrike">
                <a:solidFill>
                  <a:srgbClr val="ff0000"/>
                </a:solidFill>
                <a:latin typeface="Times New Roman"/>
              </a:rPr>
              <a:t>ципрофлоксацин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 са већом вероватноћом од </a:t>
            </a:r>
            <a:r>
              <a:rPr b="0" lang="sr-CS" sz="1800" spc="-1" strike="noStrike">
                <a:solidFill>
                  <a:srgbClr val="00b050"/>
                </a:solidFill>
                <a:latin typeface="Times New Roman"/>
              </a:rPr>
              <a:t>метронидазола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 довести до </a:t>
            </a:r>
            <a:r>
              <a:rPr b="0" lang="sr-CS" sz="1800" spc="-1" strike="noStrike">
                <a:solidFill>
                  <a:srgbClr val="7030a0"/>
                </a:solidFill>
                <a:latin typeface="Times New Roman"/>
              </a:rPr>
              <a:t>излечења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1800" spc="-1" strike="noStrike">
                <a:solidFill>
                  <a:srgbClr val="cc0066"/>
                </a:solidFill>
                <a:latin typeface="Times New Roman"/>
              </a:rPr>
              <a:t>перианалне фистуле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Box 4"/>
          <p:cNvSpPr/>
          <p:nvPr/>
        </p:nvSpPr>
        <p:spPr>
          <a:xfrm>
            <a:off x="6368400" y="5214960"/>
            <a:ext cx="242856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Проблем или болесни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Box 5"/>
          <p:cNvSpPr/>
          <p:nvPr/>
        </p:nvSpPr>
        <p:spPr>
          <a:xfrm>
            <a:off x="7139160" y="1285920"/>
            <a:ext cx="79200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Исхо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Box 7"/>
          <p:cNvSpPr/>
          <p:nvPr/>
        </p:nvSpPr>
        <p:spPr>
          <a:xfrm>
            <a:off x="2079360" y="1571760"/>
            <a:ext cx="152640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Интервенциј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Box 8"/>
          <p:cNvSpPr/>
          <p:nvPr/>
        </p:nvSpPr>
        <p:spPr>
          <a:xfrm>
            <a:off x="640440" y="4214880"/>
            <a:ext cx="127332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Упоређењ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Straight Arrow Connector 11"/>
          <p:cNvCxnSpPr/>
          <p:nvPr/>
        </p:nvCxnSpPr>
        <p:spPr>
          <a:xfrm>
            <a:off x="2999160" y="2000160"/>
            <a:ext cx="358200" cy="57240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8" name="Straight Arrow Connector 12"/>
          <p:cNvCxnSpPr/>
          <p:nvPr/>
        </p:nvCxnSpPr>
        <p:spPr>
          <a:xfrm flipV="1">
            <a:off x="1428840" y="3071520"/>
            <a:ext cx="429120" cy="107208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9" name="Straight Arrow Connector 13"/>
          <p:cNvCxnSpPr/>
          <p:nvPr/>
        </p:nvCxnSpPr>
        <p:spPr>
          <a:xfrm flipH="1">
            <a:off x="5285880" y="1571760"/>
            <a:ext cx="1643760" cy="128664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60" name="Straight Arrow Connector 14"/>
          <p:cNvCxnSpPr/>
          <p:nvPr/>
        </p:nvCxnSpPr>
        <p:spPr>
          <a:xfrm flipH="1" flipV="1">
            <a:off x="5940000" y="3071520"/>
            <a:ext cx="1418400" cy="200088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0T21:18:48Z</dcterms:created>
  <dc:creator>Slobodan Jankovic</dc:creator>
  <dc:description/>
  <dc:language>en-US</dc:language>
  <cp:lastModifiedBy>Slobodan Jankovic</cp:lastModifiedBy>
  <dcterms:modified xsi:type="dcterms:W3CDTF">2015-08-02T12:22:33Z</dcterms:modified>
  <cp:revision>59</cp:revision>
  <dc:subject/>
  <dc:title>Slide 1</dc:title>
</cp:coreProperties>
</file>